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dt" idx="6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ftr" idx="7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 type="sldNum" idx="8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46EC5-D949-4DBB-A69A-242BFD3AFA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96B67-CA39-4307-8725-F34CF103D4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669C2-4D59-4CE5-80CB-F8322EA440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34275-419D-4F70-89DB-AB1ED98961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CFEE5-38DC-45A4-A144-E1D9FB6018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s of activity-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ver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E13E1-0387-42B4-A36C-91C47E6812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D2D3E-AFD9-4966-A22A-DE0FABD722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98991-529A-4ECD-A3BB-39278BFCA3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26DF8-C8D8-4552-8B1B-6F2A209FAB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647AC-DA95-458A-B270-609FEE605A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D0356-2828-444E-899D-BFD63D7AC9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78F0A-9236-43AF-9D3C-179A0D35AD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9566A-7A37-4304-A81A-97DA23249C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D821B-8028-4AAB-9BEB-09E10D4BE1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37B13-C322-4521-8CC3-621BBF057D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22362-1E02-4EAD-B2D6-4662D9C379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B6F6F-BC50-4F77-800E-32F135FFD4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EA644-B095-4D7F-B35E-24E18356AF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0150F-67CA-4FD8-A26E-FAF5865B80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EF1BD-9683-4EC9-B3C1-9D639459B2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A84FB-1397-4792-B4DB-52F731C11E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ity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FFF3D-C798-4C92-8CD7-6D42CB6F4A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B732AE-909E-465B-A66C-B795320CC3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37262A-A672-47F3-90A9-432C80FD62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717462-EB11-4B12-9A7C-DEA43B37DD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F28CD3-A1ED-4EB0-BC25-6C839ED9BD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156A45-E41F-4481-A3A6-563E24AC5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EEFAC9-F666-432A-8293-D7FE0F5C7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4AD8E3-587E-4A95-BECF-DA5530EBB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7E0248-F7CE-4F4C-B992-B648513C5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DD458A-AC56-45ED-A931-ABF826EDD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6094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F530F9-C532-47FB-8E78-D5A870CC2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C3A260-4282-4167-A8C0-B664C3E5A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9DD8E2-79B1-49DC-84C2-9E141BCC8D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289C5E-EB5A-4F9D-B874-94099A4E1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58751D-D5DC-4086-9C61-56F49E8D4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E25602-23B5-40C5-9657-120CFDBB8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54D9AD-185F-4B4F-AF52-4E123D746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AECB8F-D3F5-4699-A64C-D1B19FF73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777A1E-4601-40EF-AD8D-D519B3506C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07E6CB-FD05-41E3-9AB0-EC51868A5D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A29CB1-4CE5-4237-9883-95A2FD4439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6094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818E0E-0B91-47B0-B01A-8144A11F5E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4C33A3-EE2C-4AC6-9DF8-608974B013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1BC847-6EEB-4501-BFB2-D513E5C44A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DF28F6-8963-4902-B0A7-B94D3DE442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095880"/>
            <a:ext cx="4114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-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C6455-6894-43A4-B064-AC82E59A756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982800" indent="-196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375920" indent="-196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69040" indent="-196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982800" indent="-196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375920" indent="-196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69040" indent="-196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-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E5AEF-DCCB-4F7C-BFF5-9BA3D39BFC3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Espace réservé du pied de page 1"/>
          <p:cNvSpPr/>
          <p:nvPr/>
        </p:nvSpPr>
        <p:spPr>
          <a:xfrm>
            <a:off x="457200" y="609588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-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4BB8B-BCD8-4B89-B061-13B888AB844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Système “Multi Règles” de Westgard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système “multi règles “ (ou règles multiples) développé par le Dr. James O. Westgard, basé sur des concepts statistique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ombinaison de critères de décision ou règles pour évaluer si un système est sous contrô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utilisé quand au moins 2 niveaux de contrôles sont passés avec l’analy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ne peut pas être utilisé si un seul niveau de contrôle est utilisé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8" name="Picture 9" descr="westgard_lecturing"/>
          <p:cNvPicPr/>
          <p:nvPr/>
        </p:nvPicPr>
        <p:blipFill>
          <a:blip r:embed="rId1"/>
          <a:stretch/>
        </p:blipFill>
        <p:spPr>
          <a:xfrm>
            <a:off x="4114800" y="4267080"/>
            <a:ext cx="3657600" cy="236880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10"/>
          <p:cNvSpPr/>
          <p:nvPr/>
        </p:nvSpPr>
        <p:spPr>
          <a:xfrm>
            <a:off x="6095880" y="4495680"/>
            <a:ext cx="2210040" cy="3988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Dr. Westg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Espace réservé du pied de page 3"/>
          <p:cNvSpPr/>
          <p:nvPr/>
        </p:nvSpPr>
        <p:spPr>
          <a:xfrm>
            <a:off x="457200" y="609588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-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92C49-CBF7-490E-B60A-B3E09E18B13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5" descr="7_glu_control-1"/>
          <p:cNvPicPr/>
          <p:nvPr/>
        </p:nvPicPr>
        <p:blipFill>
          <a:blip r:embed="rId1"/>
          <a:stretch/>
        </p:blipFill>
        <p:spPr>
          <a:xfrm>
            <a:off x="457200" y="457200"/>
            <a:ext cx="8305920" cy="281952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6" descr="7_glu_control_2"/>
          <p:cNvPicPr/>
          <p:nvPr/>
        </p:nvPicPr>
        <p:blipFill>
          <a:blip r:embed="rId2"/>
          <a:stretch/>
        </p:blipFill>
        <p:spPr>
          <a:xfrm>
            <a:off x="457200" y="3429000"/>
            <a:ext cx="8358120" cy="28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Espace réservé du pied de page 1"/>
          <p:cNvSpPr/>
          <p:nvPr/>
        </p:nvSpPr>
        <p:spPr>
          <a:xfrm>
            <a:off x="457200" y="609588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-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C58D2-9E38-49F6-8006-D5312FB0C65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55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Répons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57200" y="1447920"/>
            <a:ext cx="83059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Jours 21, 22, 24, 26, 27, 30, 31, 33, 34, 36-44 – sous contrôle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Jours 23, 28, 29 – 1</a:t>
            </a:r>
            <a:r>
              <a:rPr b="0" lang="fr-FR" sz="3200" spc="-1" strike="noStrike" baseline="-25000">
                <a:solidFill>
                  <a:srgbClr val="000000"/>
                </a:solidFill>
                <a:latin typeface="Verdana"/>
              </a:rPr>
              <a:t>2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Jour 25 - 1</a:t>
            </a:r>
            <a:r>
              <a:rPr b="0" lang="fr-FR" sz="3200" spc="-1" strike="noStrike" baseline="-25000">
                <a:solidFill>
                  <a:srgbClr val="000000"/>
                </a:solidFill>
                <a:latin typeface="Verdana"/>
              </a:rPr>
              <a:t>3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Jour 32 – 2</a:t>
            </a:r>
            <a:r>
              <a:rPr b="0" lang="fr-FR" sz="3200" spc="-1" strike="noStrike" baseline="-25000">
                <a:solidFill>
                  <a:srgbClr val="000000"/>
                </a:solidFill>
                <a:latin typeface="Verdana"/>
              </a:rPr>
              <a:t>2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Jour 35 - R</a:t>
            </a:r>
            <a:r>
              <a:rPr b="0" lang="fr-FR" sz="3200" spc="-1" strike="noStrike" baseline="-25000">
                <a:solidFill>
                  <a:srgbClr val="000000"/>
                </a:solidFill>
                <a:latin typeface="Verdana"/>
              </a:rPr>
              <a:t>4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Espace réservé du pied de page 1"/>
          <p:cNvSpPr/>
          <p:nvPr/>
        </p:nvSpPr>
        <p:spPr>
          <a:xfrm>
            <a:off x="457200" y="609588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-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9ACC2-66EA-4959-B2FF-FD42FE1FB5C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Footer Placeholder 1"/>
          <p:cNvSpPr/>
          <p:nvPr/>
        </p:nvSpPr>
        <p:spPr>
          <a:xfrm>
            <a:off x="457200" y="6248520"/>
            <a:ext cx="4343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2296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Titre du système muti règles de Westgard</a:t>
            </a:r>
            <a:r>
              <a:rPr b="1" lang="fr-FR" sz="3600" spc="-1" strike="noStrike">
                <a:solidFill>
                  <a:srgbClr val="00007d"/>
                </a:solidFill>
                <a:latin typeface="Verdana"/>
              </a:rPr>
              <a:t> </a:t>
            </a:r>
            <a:br>
              <a:rPr sz="2400"/>
            </a:b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739880"/>
            <a:ext cx="3657600" cy="252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0000"/>
          </a:bodyPr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Verdana"/>
              </a:rPr>
              <a:t>Règle 1</a:t>
            </a:r>
            <a:r>
              <a:rPr b="0" lang="fr-FR" sz="4000" spc="-1" strike="noStrike" baseline="-25000">
                <a:solidFill>
                  <a:srgbClr val="000000"/>
                </a:solidFill>
                <a:latin typeface="Verdana"/>
              </a:rPr>
              <a:t>2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Verdana"/>
              </a:rPr>
              <a:t>Règle 2</a:t>
            </a:r>
            <a:r>
              <a:rPr b="0" lang="fr-FR" sz="4000" spc="-1" strike="noStrike" baseline="-25000">
                <a:solidFill>
                  <a:srgbClr val="000000"/>
                </a:solidFill>
                <a:latin typeface="Verdana"/>
              </a:rPr>
              <a:t>2S</a:t>
            </a:r>
            <a:r>
              <a:rPr b="0" lang="fr-FR" sz="4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Verdana"/>
              </a:rPr>
              <a:t>Règle 1</a:t>
            </a:r>
            <a:r>
              <a:rPr b="0" lang="fr-FR" sz="4000" spc="-1" strike="noStrike" baseline="-25000">
                <a:solidFill>
                  <a:srgbClr val="000000"/>
                </a:solidFill>
                <a:latin typeface="Verdana"/>
              </a:rPr>
              <a:t>3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Verdana"/>
              </a:rPr>
              <a:t>Règle R</a:t>
            </a:r>
            <a:r>
              <a:rPr b="0" lang="fr-FR" sz="4000" spc="-1" strike="noStrike" baseline="-25000">
                <a:solidFill>
                  <a:srgbClr val="000000"/>
                </a:solidFill>
                <a:latin typeface="Verdana"/>
              </a:rPr>
              <a:t>4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Verdana"/>
              </a:rPr>
              <a:t>Règle 4</a:t>
            </a:r>
            <a:r>
              <a:rPr b="0" lang="fr-FR" sz="4000" spc="-1" strike="noStrike" baseline="-25000">
                <a:solidFill>
                  <a:srgbClr val="000000"/>
                </a:solidFill>
                <a:latin typeface="Verdana"/>
              </a:rPr>
              <a:t>1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Verdana"/>
              </a:rPr>
              <a:t>Règle 10</a:t>
            </a:r>
            <a:r>
              <a:rPr b="0" lang="fr-FR" sz="4000" spc="-1" strike="noStrike" baseline="-25000">
                <a:solidFill>
                  <a:srgbClr val="000000"/>
                </a:solidFill>
                <a:latin typeface="Verdana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657600" y="1599840"/>
            <a:ext cx="4191120" cy="15238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Text Box 8"/>
          <p:cNvSpPr/>
          <p:nvPr/>
        </p:nvSpPr>
        <p:spPr>
          <a:xfrm>
            <a:off x="3886200" y="1828800"/>
            <a:ext cx="3809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Utilisé quand 2 niveaux de contrôle sont analysés par séri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9"/>
          <p:cNvSpPr/>
          <p:nvPr/>
        </p:nvSpPr>
        <p:spPr>
          <a:xfrm>
            <a:off x="1752480" y="5486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11" descr="j0082253"/>
          <p:cNvPicPr/>
          <p:nvPr/>
        </p:nvPicPr>
        <p:blipFill>
          <a:blip r:embed="rId1"/>
          <a:stretch/>
        </p:blipFill>
        <p:spPr>
          <a:xfrm>
            <a:off x="6019920" y="3124080"/>
            <a:ext cx="250164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Espace réservé du pied de page 1"/>
          <p:cNvSpPr/>
          <p:nvPr/>
        </p:nvSpPr>
        <p:spPr>
          <a:xfrm>
            <a:off x="457200" y="609588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-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696A6-9DF7-428F-849B-B507EF39293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Westgard – Règle 1</a:t>
            </a:r>
            <a:r>
              <a:rPr b="0" lang="fr-FR" sz="3600" spc="-1" strike="noStrike" baseline="-25000">
                <a:solidFill>
                  <a:srgbClr val="000099"/>
                </a:solidFill>
                <a:latin typeface="Verdana"/>
              </a:rPr>
              <a:t>2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Règle d’avertissement 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– ne cause pas le rejet du tes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Un des deux résultats du contrôle est en dehors de ±2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lerte les techniciens sur des problèmes potentiel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oit alors évaluer la Règle 1</a:t>
            </a:r>
            <a:r>
              <a:rPr b="0" lang="fr-FR" sz="3200" spc="-1" strike="noStrike" baseline="-25000">
                <a:solidFill>
                  <a:srgbClr val="000000"/>
                </a:solidFill>
                <a:latin typeface="Verdana"/>
              </a:rPr>
              <a:t>3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Espace réservé du pied de page 1"/>
          <p:cNvSpPr/>
          <p:nvPr/>
        </p:nvSpPr>
        <p:spPr>
          <a:xfrm>
            <a:off x="457200" y="609588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-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21107-07F9-42F8-9A28-6819C71D0FD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701640"/>
            <a:ext cx="8229600" cy="7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Westgard – Règle 2</a:t>
            </a:r>
            <a:r>
              <a:rPr b="0" lang="fr-FR" sz="3600" spc="-1" strike="noStrike" baseline="-25000">
                <a:solidFill>
                  <a:srgbClr val="000099"/>
                </a:solidFill>
                <a:latin typeface="Verdana"/>
              </a:rPr>
              <a:t>2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eux valeurs consécutives du contrôle pour le même niveau sont en dehors de ±2S dans la même direction, ou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s deux contrôles dans la même série excèdent ±2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ésultats ne peuvent pas être rendu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equière une action correctiv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Espace réservé du pied de page 1"/>
          <p:cNvSpPr/>
          <p:nvPr/>
        </p:nvSpPr>
        <p:spPr>
          <a:xfrm>
            <a:off x="457200" y="609588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-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C4D1C-9327-428A-8BAE-2779B28B04A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Westgard – R</a:t>
            </a:r>
            <a:r>
              <a:rPr b="0" lang="fr-FR" sz="3600" spc="-1" strike="noStrike" baseline="-25000">
                <a:solidFill>
                  <a:srgbClr val="000099"/>
                </a:solidFill>
                <a:latin typeface="Verdana"/>
              </a:rPr>
              <a:t>4S</a:t>
            </a: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 Règ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Un contrôle est inférieur à –2SD et l’autre est supérieur à +2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’intervalle entre les deux résultats sera par conséquent supérieur à 4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Une erreur </a:t>
            </a:r>
            <a:r>
              <a:rPr b="0" lang="fr-FR" sz="3200" spc="-1" strike="noStrike">
                <a:solidFill>
                  <a:srgbClr val="ff0000"/>
                </a:solidFill>
                <a:latin typeface="Verdana"/>
              </a:rPr>
              <a:t>aléatoire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s’est produite, le test doit être rejeté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Espace réservé du pied de page 1"/>
          <p:cNvSpPr/>
          <p:nvPr/>
        </p:nvSpPr>
        <p:spPr>
          <a:xfrm>
            <a:off x="457200" y="609588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-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C5DF3-A48D-42BE-BB62-485D845D60F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Westgard – Règle4</a:t>
            </a:r>
            <a:r>
              <a:rPr b="0" lang="fr-FR" sz="3600" spc="-1" strike="noStrike" baseline="-25000">
                <a:solidFill>
                  <a:srgbClr val="000099"/>
                </a:solidFill>
                <a:latin typeface="Verdana"/>
              </a:rPr>
              <a:t>1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763120" cy="366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equiert les données de plusieurs tes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quatre résultats consécutifs de CQ pour un niveau de contrôle sont en dehors de ±1S, ou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es deux niveaux de contrôle ont des résultats consécutifs en dehors de ±1S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Espace réservé du pied de page 1"/>
          <p:cNvSpPr/>
          <p:nvPr/>
        </p:nvSpPr>
        <p:spPr>
          <a:xfrm>
            <a:off x="457200" y="609588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-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81B34-4E9C-463B-A484-323502AEF97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Westgard – Règle10</a:t>
            </a:r>
            <a:r>
              <a:rPr b="0" lang="fr-FR" sz="3600" spc="-1" strike="noStrike" baseline="-25000">
                <a:solidFill>
                  <a:srgbClr val="000099"/>
                </a:solidFill>
                <a:latin typeface="Verdana"/>
              </a:rPr>
              <a:t>X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8229600" cy="333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equiert des données de plusieurs tes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10 résultats consécutifs pour un niveau de contrôle sont du même côté de la moyenne, ou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es deux niveaux de contrôle ont cinq résultats consécutifs du même côté de la moyenn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Line 5"/>
          <p:cNvSpPr/>
          <p:nvPr/>
        </p:nvSpPr>
        <p:spPr>
          <a:xfrm>
            <a:off x="4724280" y="838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Espace réservé du pied de page 1"/>
          <p:cNvSpPr/>
          <p:nvPr/>
        </p:nvSpPr>
        <p:spPr>
          <a:xfrm>
            <a:off x="457200" y="609588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-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12E3D-C87B-4A1A-AA89-9C319F7BD03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99"/>
                </a:solidFill>
                <a:latin typeface="Verdana"/>
              </a:rPr>
              <a:t>QC Multi Règles de Westgard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64" name="Picture 3" descr="flow3"/>
          <p:cNvPicPr/>
          <p:nvPr/>
        </p:nvPicPr>
        <p:blipFill>
          <a:blip r:embed="rId1"/>
          <a:stretch/>
        </p:blipFill>
        <p:spPr>
          <a:xfrm>
            <a:off x="762120" y="1295280"/>
            <a:ext cx="7772400" cy="481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Espace réservé du pied de page 1"/>
          <p:cNvSpPr/>
          <p:nvPr/>
        </p:nvSpPr>
        <p:spPr>
          <a:xfrm>
            <a:off x="457200" y="609588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-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197C1-98DA-4C15-8014-28344E5BC8B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65280"/>
            <a:ext cx="7772400" cy="66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99"/>
                </a:solidFill>
                <a:latin typeface="Verdana"/>
              </a:rPr>
              <a:t>Activité</a:t>
            </a:r>
            <a:br>
              <a:rPr sz="3800"/>
            </a:br>
            <a:endParaRPr b="0" lang="en-US" sz="38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837720" y="1371600"/>
            <a:ext cx="7239240" cy="287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300" spc="-1" strike="noStrike">
                <a:solidFill>
                  <a:srgbClr val="000000"/>
                </a:solidFill>
                <a:latin typeface="Verdana"/>
              </a:rPr>
              <a:t>En utilisant le système multi règles de Westgard, décrivez les valeurs de contrôles quotidiennes de la diapositive suivante</a:t>
            </a:r>
            <a:endParaRPr b="0" lang="en-US" sz="4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8T02:26:00Z</dcterms:created>
  <dc:creator>Robin Barteluk</dc:creator>
  <dc:description/>
  <dc:language>en-US</dc:language>
  <cp:lastModifiedBy>dolmazonv</cp:lastModifiedBy>
  <dcterms:modified xsi:type="dcterms:W3CDTF">2010-04-08T14:13:34Z</dcterms:modified>
  <cp:revision>12</cp:revision>
  <dc:subject/>
  <dc:title>Westgard Multirule System</dc:title>
</cp:coreProperties>
</file>